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604838709677419"/>
          <c:y val="0.0431266846361186"/>
          <c:w val="0.673387096774194"/>
          <c:h val="0.93990803868717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6411"/>
        <c:axId val="62883915"/>
      </c:barChart>
      <c:catAx>
        <c:axId val="32664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83915"/>
        <c:crossesAt val="0"/>
        <c:auto val="1"/>
        <c:lblAlgn val="ctr"/>
        <c:lblOffset val="100"/>
        <c:noMultiLvlLbl val="0"/>
      </c:catAx>
      <c:valAx>
        <c:axId val="62883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641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-4.18145161290323"/>
          <c:y val="0.022039004280957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799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761715647339"/>
          <c:y val="0.0197933973849599"/>
          <c:w val="0.911159650516283"/>
          <c:h val="0.9398974210792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c5000b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проживало населения</c:v>
                </c:pt>
                <c:pt idx="1">
                  <c:v>добывалось угля</c:v>
                </c:pt>
                <c:pt idx="2">
                  <c:v>выплавлялось стали</c:v>
                </c:pt>
                <c:pt idx="3">
                  <c:v>выплавлялось  чугуна</c:v>
                </c:pt>
                <c:pt idx="4">
                  <c:v>производилось зерна</c:v>
                </c:pt>
                <c:pt idx="5">
                  <c:v>производилось  эл. энерги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4</c:v>
                </c:pt>
                <c:pt idx="1">
                  <c:v>0.68</c:v>
                </c:pt>
                <c:pt idx="2">
                  <c:v>0.58</c:v>
                </c:pt>
                <c:pt idx="3">
                  <c:v>0.68</c:v>
                </c:pt>
                <c:pt idx="4">
                  <c:v>0.38</c:v>
                </c:pt>
                <c:pt idx="5">
                  <c:v>0.42</c:v>
                </c:pt>
              </c:numCache>
            </c:numRef>
          </c:val>
        </c:ser>
        <c:gapWidth val="100"/>
        <c:overlap val="0"/>
        <c:axId val="62839545"/>
        <c:axId val="87827257"/>
      </c:barChart>
      <c:catAx>
        <c:axId val="6283954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</a:defRPr>
            </a:pPr>
          </a:p>
        </c:txPr>
        <c:crossAx val="87827257"/>
        <c:crossesAt val="0"/>
        <c:auto val="1"/>
        <c:lblAlgn val="ctr"/>
        <c:lblOffset val="100"/>
        <c:noMultiLvlLbl val="0"/>
      </c:catAx>
      <c:valAx>
        <c:axId val="87827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Arial"/>
              </a:defRPr>
            </a:pPr>
          </a:p>
        </c:txPr>
        <c:crossAx val="6283954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951072279586974"/>
          <c:y val="0.47944809651087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799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764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637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64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637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0CFD7-272B-440D-9D1D-93FC938DBF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29087-46DE-44F3-BE6E-2D1B495958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DFC60-0149-4281-B02B-DF269C0880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06640" y="812880"/>
            <a:ext cx="5337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6AAC4-1B53-4BC5-BE3F-176B8318B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D5E4B-15D5-445D-A7C2-5C2B9DCAE2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C0062-030B-4BD4-B990-C7F4AF5C43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06640" y="812880"/>
            <a:ext cx="5337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65219-B2AE-47B3-9D13-8E95FA2441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06640" y="812880"/>
            <a:ext cx="5337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8A8C6-C88A-4713-BDE2-7C96AACCF0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06640" y="812880"/>
            <a:ext cx="5337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D2299-5504-4BAD-A106-8B9083B718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06640" y="812880"/>
            <a:ext cx="5337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18C0A-BF92-42CF-B9FF-372A05E6BC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06640" y="812880"/>
            <a:ext cx="5337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4E1A2-B83F-4560-AF02-9EA32B90E1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06640" y="812880"/>
            <a:ext cx="5337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F3063-C1B5-46DA-B2F3-C68954ADF6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06640" y="812880"/>
            <a:ext cx="5337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24069-7BC7-4691-B335-E99DEFB5F0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28936-07DD-4590-92C0-8F337248FC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06640" y="812880"/>
            <a:ext cx="533376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6873A-BED6-476B-AFED-2A4222C78B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06640" y="812880"/>
            <a:ext cx="533376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AACEE-3A3C-49B5-9FA7-935C20CEC4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06640" y="812880"/>
            <a:ext cx="533376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217C-9051-4982-BE8B-A98F0A6128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06640" y="812880"/>
            <a:ext cx="533376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6F0F9-0C97-442E-BBBA-99A4470D1A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B4D3B-2436-4BF4-A47C-C5BAE05C8C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773D6-846B-4A74-B1DF-9640CDE093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11669-80A0-4031-A304-804FA28075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29F81-ABF5-4AD5-9106-7FD8A9FC62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A47E8-4C49-4C04-9856-295DC82E80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B6CF9-ED17-475A-8D5C-FD9EA10917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D7B-E5E0-4710-A700-050838E4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3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5720"/>
            <a:ext cx="9053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B4F-8C32-4047-8857-99EDE7A1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57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240" y="43657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1B4-D9CA-4168-A7D1-371D6E37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683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5080" y="17683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57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3657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5080" y="43657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FDE-3B74-4766-9AE4-7C53D2AB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C73-50E0-4D27-8215-85BCC248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756-993E-4A36-9C0D-06945075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61F-AE38-4BC6-AA99-E65F6B0A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09C-0812-4669-B5DD-3E819054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36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6A8-187B-479A-8C1C-F6A53009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57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5C8-183F-43E1-B82E-B6900DC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240" y="43657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077-59E5-41A7-9FEF-0AFE1C10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5720"/>
            <a:ext cx="9053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0AE-7DD9-4BA9-8573-BE3005A1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0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8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1F978F-6A5C-4EF6-A8CC-B14BEDFFB8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950760"/>
            <a:ext cx="9070920" cy="2532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тодическое обеспечение тем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Великая Отечественная войн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9440" y="3850920"/>
            <a:ext cx="907092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1440" y="325440"/>
            <a:ext cx="9177120" cy="14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д страной нависла смертельная 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2160720" y="8459640"/>
            <a:ext cx="9720360" cy="1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0360" y="1837800"/>
            <a:ext cx="5076720" cy="55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вай, страна огромная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вай на смертный бой!  C фашистской силой темною, c проклятою ордой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ярость благородная, вскипает, как вол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дет война народная, Священная война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4319640" cy="5580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803840" y="3959280"/>
            <a:ext cx="59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1840" y="304560"/>
            <a:ext cx="906444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купирована территория, на которой до войн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Object 2"/>
          <p:cNvGraphicFramePr/>
          <p:nvPr/>
        </p:nvGraphicFramePr>
        <p:xfrm>
          <a:off x="835200" y="2036880"/>
          <a:ext cx="9064440" cy="4983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306360"/>
            <a:ext cx="93870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итва   за  Москву</a:t>
            </a:r>
            <a:br>
              <a:rPr sz="48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30 сентября 1941г. - 8 января 1942 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60360" y="1800360"/>
            <a:ext cx="4140360" cy="52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040360" y="1800360"/>
            <a:ext cx="1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ВВВВВВВ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500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естройка управления стран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6280" y="900000"/>
            <a:ext cx="69026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 Государственного Комитета      Обороны ( 30 июня 1941 г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3279600" cy="504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3959280" y="2879640"/>
            <a:ext cx="6121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алин И. В.- Председател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лотов В. М.- Зам. председате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орошилов К.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аленков Г. 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рия Л. П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06300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локада Ленинграда ( 8 сентября 1941 — конец января 1944 г.)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720720" y="2320920"/>
            <a:ext cx="306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00000" y="2160720"/>
            <a:ext cx="2205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888888888888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9640" y="2160720"/>
            <a:ext cx="93600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 июля 1941г Гальдер записал в дневнике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Есть твердое решение фюрера сравнять Москву и Ленинград с землей»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79280" y="3780000"/>
            <a:ext cx="6340680" cy="3600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020000" y="4140360"/>
            <a:ext cx="28796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7020000" y="4140360"/>
            <a:ext cx="28796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локадном Ленинграде погибло  около   1 миллиона ленинград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й перелом в вой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76280" y="1260360"/>
            <a:ext cx="9063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Сталинградская битва ( 17 июля 1942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2 февраля 1943 г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96960" y="1260360"/>
            <a:ext cx="344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25600" y="1440000"/>
            <a:ext cx="163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39640" y="2340000"/>
            <a:ext cx="9186840" cy="468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-1079640" y="5940360"/>
            <a:ext cx="12607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9202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рская битва ( 5 июля -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3 августа 1943 г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5400720" y="1800360"/>
            <a:ext cx="538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ь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700360" y="1800360"/>
            <a:ext cx="4140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619280" y="1619280"/>
            <a:ext cx="6480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ПЕРАЦИЯ  ЦИТАДЕЛЬ»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641880" y="7559280"/>
            <a:ext cx="9820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3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360360" y="2158920"/>
            <a:ext cx="5759280" cy="5040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 rot="21540000">
            <a:off x="11363040" y="2566800"/>
            <a:ext cx="67323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 КУРСКОЙ   БИТВЕ  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УЧАСТВОВАЛО  3  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ИЛЛИОНА ЧЕЛОВЕ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480000" y="2836800"/>
            <a:ext cx="317376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УРСКОЙ   БИТВ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ВОВАЛО  БО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 МИЛЛИОНОВ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79520" y="93240"/>
            <a:ext cx="9059760" cy="26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РЛИНСКАЯ ОПЕРАЦ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 16 апреля - 8 мая 1945 г.)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битве за Берлин участвова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е 3 млн. чело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60360" y="2881440"/>
            <a:ext cx="4500720" cy="4138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5219640" y="2879640"/>
            <a:ext cx="4319640" cy="414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3320" y="179280"/>
            <a:ext cx="925668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ПИТУЛЯЦИЯ  ГЕРМАНИИ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0 апреля 1945 г. - советскими войсками был взят Рейстаг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этот же день сержанты М.Егоров и М. Кантария водрузили Красный флаг над Рейхстагом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мая 1945 г. остатки берлинского горнизона капитулирова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-8280"/>
            <a:ext cx="905976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писание Акта о безоговорочной капитуляции Германии ( 8 мая 1945 г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79280" y="2519280"/>
            <a:ext cx="378000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3959280" y="2879640"/>
            <a:ext cx="6119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7000"/>
          </a:bodyPr>
          <a:p>
            <a:pPr marL="403200" indent="-30168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 1 Вероломное нападение фашистской Германии на СССР. План «Барбаросс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>
            <a:hlinkClick r:id="rId1" action="ppaction://hlinksldjump"/>
          </p:cNvPr>
          <p:cNvSpPr/>
          <p:nvPr/>
        </p:nvSpPr>
        <p:spPr>
          <a:xfrm>
            <a:off x="539640" y="2806560"/>
            <a:ext cx="90709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Font typeface="Wingdings" charset="2"/>
              <a:buChar char="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Раздел 2 Основные этапы Великой Отечественной вой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>
            <a:hlinkClick r:id="rId2" action="ppaction://hlinksldjump"/>
          </p:cNvPr>
          <p:cNvSpPr/>
          <p:nvPr/>
        </p:nvSpPr>
        <p:spPr>
          <a:xfrm>
            <a:off x="468360" y="3780000"/>
            <a:ext cx="907092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Font typeface="Wingdings" charset="2"/>
              <a:buChar char="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Раздел 3 Продвижение немецких войск вглубь территории СССР к зиме 1941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5">
            <a:hlinkClick r:id="rId3" action="ppaction://hlinksldjump"/>
          </p:cNvPr>
          <p:cNvSpPr/>
          <p:nvPr/>
        </p:nvSpPr>
        <p:spPr>
          <a:xfrm>
            <a:off x="360360" y="4753080"/>
            <a:ext cx="90709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Font typeface="Wingdings" charset="2"/>
              <a:buChar char="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Раздел 4 Основные битвы Великой Отечественной 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6">
            <a:hlinkClick r:id="rId4" action="ppaction://hlinksldjump"/>
          </p:cNvPr>
          <p:cNvSpPr/>
          <p:nvPr/>
        </p:nvSpPr>
        <p:spPr>
          <a:xfrm>
            <a:off x="360360" y="5686560"/>
            <a:ext cx="9070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Font typeface="Wingdings" charset="2"/>
              <a:buChar char="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Раздел 5 Тыл - фрон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>
            <a:hlinkClick r:id="rId5" action="ppaction://hlinksldjump"/>
          </p:cNvPr>
          <p:cNvSpPr/>
          <p:nvPr/>
        </p:nvSpPr>
        <p:spPr>
          <a:xfrm>
            <a:off x="468360" y="6226200"/>
            <a:ext cx="9070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Font typeface="Wingdings" charset="2"/>
              <a:buChar char="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Раздел 6 Итоги. Парад Поб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0960" y="40320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АРАД ПОБЕДЫ ( 24 июня 1945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20720" y="1879560"/>
            <a:ext cx="86407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Arial"/>
              </a:rPr>
              <a:t>ПАРАД ПОБЕДЫ  24 июня 1945 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3280" y="194616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219640" y="1800360"/>
            <a:ext cx="4859280" cy="485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79280" y="1800360"/>
            <a:ext cx="50421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АРАД ПОБЕДЫ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24 июня 1945 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3280" y="194616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119640" y="7559640"/>
            <a:ext cx="3600720" cy="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73160" y="1654200"/>
            <a:ext cx="9720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ТОГИ ВЕЛИКОЙ ОТЕЧЕСТВЕННОЙ ВОЙ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3280" y="1812600"/>
            <a:ext cx="905976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НЫЙ ИТОГ — ПОБЕДА НАД ФАШИЗМ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свободу, честь и независимость советский народ заплатил огромную це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ССР потерял 26 млн. 650 тыс.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г разрушил 1710 город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0 тыс. сел и дере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2 тыс. промышленных предприят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8 тыс. колхоз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876 совхоз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090 МТ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02920" y="1767960"/>
            <a:ext cx="92170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е кредо Гитлер сформулировал еще в 20-е гг в книге «Меin Kampf»: « Если мы сегодня говорим о новых землях и территориях в Европе, мы обращаем свой     взор в первую очередь к России, а также к соседним с ней  и зависимым от нее странам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60000" y="3779640"/>
            <a:ext cx="90709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2июня 1941г. В 3ч 30 мин. немецкая армия начала мощное вторжение по всей границе от Черного до Балтийского моря. Началась Великая Отечественная война. Она длила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418 дней и ночей и была самым суровым испытанием для нашей страны за всю ее истор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5759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3379320"/>
            <a:ext cx="907092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соответствии с этими бредовыми идеями, придя к власти в 1933г, фашисты начали подготовку к войне. Политическое решение о нападении на СССР Гитлер принял в Берхгофе 31 июля1940г. Он дал следующие установки: «Начало — май 1941г., продолжительность кампании — пять месяцев, цель - уничтожение жизненной силы России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900000" y="179280"/>
            <a:ext cx="2340000" cy="30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Object 4"/>
          <p:cNvGraphicFramePr/>
          <p:nvPr/>
        </p:nvGraphicFramePr>
        <p:xfrm>
          <a:off x="3691080" y="3240000"/>
          <a:ext cx="88920" cy="2270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49080" y="3959280"/>
            <a:ext cx="907092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00000"/>
                </a:solidFill>
                <a:latin typeface="Arial"/>
              </a:rPr>
              <a:t>Из заявления Берлина:</a:t>
            </a:r>
            <a:r>
              <a:rPr b="0" lang="ru-RU" sz="3200" spc="-1" strike="noStrike">
                <a:solidFill>
                  <a:srgbClr val="e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асти русских все более и более продвигаются к границам Германии, несмотря на  то, что немецкой стороной не предпринимается никаких военных мер, которые могли бы оправдать такие действия русски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066680" y="539640"/>
            <a:ext cx="253368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3040" y="3780000"/>
            <a:ext cx="906768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9000"/>
          </a:bodyPr>
          <a:p>
            <a:pPr marL="270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00000"/>
                </a:solidFill>
                <a:latin typeface="Arial"/>
              </a:rPr>
              <a:t>Из заявления  Москвы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«...Это неслыханное нападение на нашу страну является  беспримерным в истории  цивилизационных народов вероломством. Нападение на нашу страну произведено,несмотря на  то,   что между СССР и Германией  заключен  договор  о  ненападении и Советское правительство  со  всей добросовестностью выполняло все условия  этого договора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849240" y="504720"/>
            <a:ext cx="23907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движение немецких войск вглубь страны  к зиме 1941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503280" y="1768320"/>
            <a:ext cx="9064440" cy="49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66760" y="2550960"/>
          <a:ext cx="9540720" cy="2880000"/>
        </p:xfrm>
        <a:graphic>
          <a:graphicData uri="http://schemas.openxmlformats.org/drawingml/2006/table">
            <a:tbl>
              <a:tblPr/>
              <a:tblGrid>
                <a:gridCol w="4770360"/>
                <a:gridCol w="4770360"/>
              </a:tblGrid>
              <a:tr h="1546200">
                <a:tc>
                  <a:txBody>
                    <a:bodyPr lIns="90000" rIns="90000" tIns="229680" bIns="468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мания с сателлитами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0000" rIns="90000" tIns="229680" bIns="468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ССР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6633"/>
                    </a:solidFill>
                  </a:tcPr>
                </a:tc>
              </a:tr>
              <a:tr h="1333800">
                <a:tc>
                  <a:txBody>
                    <a:bodyPr lIns="90000" rIns="90000" tIns="229680" bIns="468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3 млн. 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229680" bIns="468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 млн. 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20"/>
          <p:cNvSpPr/>
          <p:nvPr/>
        </p:nvSpPr>
        <p:spPr>
          <a:xfrm>
            <a:off x="900000" y="5940360"/>
            <a:ext cx="80996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Численность  вооруженных  сил, вступивших в войну сторон, 22 июня 1941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здел 2 . Основные этапы Великой Отечественной вой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539640" y="2038320"/>
            <a:ext cx="9064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Первый  этап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 Начальный период Великой Отечественной 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(22 июня  - 18 ноября 1942г.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Второй эта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  Коренной  перелом  в ходе Великой Отечественной войны  (19 ноября —весь  1943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Третий эта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Заключительный, победоносный период войны (  1 января 1944г.  -  9  мая 1945 г.)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0560" y="6186600"/>
            <a:ext cx="37576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23800" y="3240000"/>
            <a:ext cx="1409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02:37Z</dcterms:created>
  <dc:creator/>
  <dc:description/>
  <dc:language>en-US</dc:language>
  <cp:lastModifiedBy>Исамудин</cp:lastModifiedBy>
  <dcterms:modified xsi:type="dcterms:W3CDTF">2016-11-27T20:14:49Z</dcterms:modified>
  <cp:revision>4</cp:revision>
  <dc:subject/>
  <dc:title>Методическое обеспечение темы   Великая Отечественная война. </dc:title>
</cp:coreProperties>
</file>